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C953-CADD-4E3A-AF8B-8F552A91B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6A98-355C-412D-B7F3-B8D9120BA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01BB-A92C-409E-B80C-82F9B7EBC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D708-7054-41D6-B7D2-69FA9E1B0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9D254-DF9A-4022-9741-6686DE7EB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8BB4C-9D41-4697-9213-7E00C3B78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02A5A-2CB0-4A66-B703-22EEADC63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739F1-0887-4FF2-9865-8609D283B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F4D54-734F-4C74-A5C5-C7D7EC82F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63060-98E9-4D9B-8523-2BEB02C9E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00816-5B73-44CE-B8CB-631433ABE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0CEB-95B0-4B4D-85B4-F64813F46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95846-D4F1-4358-B075-8CA38A440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BBEB0-A4C0-4C59-B9F5-23224D90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3D573-E0D4-45C6-B983-A986BB5F8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FE53B-08E9-4C16-B4AC-06F7DC539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89A9F-8A1D-4324-8A64-12F111DEC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DBEC-ECE5-431C-91A2-16312D563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2F28-01A0-47CA-A6C5-1F9FE662F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0FF4-9B96-496A-997C-98D9C3C4B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53F1-FF4F-4EC1-B3BB-A9D0603EE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6E8A-C165-4531-A36A-E4EB999D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F320-ADA6-4E27-B0F3-196FAF5FC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6F42-FC68-4180-B591-2A8B22C91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6917A-504F-4F92-88D9-B63E4632A489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F4F1F-C04C-435E-BAEE-0617D0F9E05A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3"/>
          <p:cNvSpPr/>
          <p:nvPr/>
        </p:nvSpPr>
        <p:spPr>
          <a:xfrm>
            <a:off x="685800" y="3124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i="1" lang="en-US" sz="4800" spc="-1" strike="noStrike">
                <a:solidFill>
                  <a:srgbClr val="000000"/>
                </a:solidFill>
                <a:latin typeface="Book Antiqua"/>
              </a:rPr>
              <a:t>Emergency Management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1523880" y="4495680"/>
            <a:ext cx="6324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Security and Loss Prevention Management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3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556E6-0721-43EB-9ABB-6DAB79E3B544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0" y="2133720"/>
            <a:ext cx="9144000" cy="37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68320" indent="-403200">
              <a:lnSpc>
                <a:spcPct val="100000"/>
              </a:lnSpc>
              <a:spcBef>
                <a:spcPts val="1874"/>
              </a:spcBef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  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Do not allow media representatives unescorted access to the property—whether to check damage or interview guests and witnesses.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868320" indent="-403200">
              <a:lnSpc>
                <a:spcPct val="100000"/>
              </a:lnSpc>
              <a:spcBef>
                <a:spcPts val="1874"/>
              </a:spcBef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  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If possible, deliver information to the media at a scheduled time, so all reporters get the same information at the same time.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Basic Steps for Crisis Communications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3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63B29-FC1D-4B21-A21C-F1CED9D2FD83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5" name="Rectangle 15"/>
          <p:cNvSpPr/>
          <p:nvPr/>
        </p:nvSpPr>
        <p:spPr>
          <a:xfrm>
            <a:off x="152280" y="1676520"/>
            <a:ext cx="9144000" cy="39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6480" indent="-441360"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906480" indent="-441360">
              <a:lnSpc>
                <a:spcPct val="100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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What emergencies are likely to occur?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906480" indent="-441360">
              <a:lnSpc>
                <a:spcPct val="100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  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What local organizations can provide emergency information and support?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906480" indent="-441360">
              <a:lnSpc>
                <a:spcPct val="100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  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Which staff members have skills that would be useful in an emergency situation?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906480" indent="-44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6" name="Rectangle 16"/>
          <p:cNvSpPr/>
          <p:nvPr/>
        </p:nvSpPr>
        <p:spPr>
          <a:xfrm>
            <a:off x="0" y="36504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Considerations of an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Emergency Management Program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3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59B08-4EF3-4812-AE3F-FBB2C0AFF4E8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0" y="2286000"/>
            <a:ext cx="9144000" cy="33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9720" indent="-444600">
              <a:lnSpc>
                <a:spcPct val="100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  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What are the hotel's emergency equipment and supply needs?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909720" indent="-444600">
              <a:lnSpc>
                <a:spcPct val="100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  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When an emergency occurs, how should communication continue?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909720" indent="-444600">
              <a:lnSpc>
                <a:spcPct val="100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  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What steps need to be taken to prepare staff for an emergency at the hotel?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Considerations of an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Emergency Management Program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0" y="16002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 Antiqua"/>
              </a:rPr>
              <a:t>(continued)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3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7C94B-56F5-497A-9C83-BCF237009464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2" name="Rectangle 15"/>
          <p:cNvSpPr/>
          <p:nvPr/>
        </p:nvSpPr>
        <p:spPr>
          <a:xfrm>
            <a:off x="0" y="63388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 Antiqua"/>
              </a:rPr>
              <a:t>(continued)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3" name="Rectangle 16"/>
          <p:cNvSpPr/>
          <p:nvPr/>
        </p:nvSpPr>
        <p:spPr>
          <a:xfrm>
            <a:off x="152280" y="1066680"/>
            <a:ext cx="9144000" cy="46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6480" indent="-441360"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906480" indent="-441360">
              <a:lnSpc>
                <a:spcPct val="100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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Establish a command center.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906480" indent="-441360">
              <a:lnSpc>
                <a:spcPct val="100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  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Assign personnel to appropriate response teams, based on their skills and availability.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906480" indent="-441360">
              <a:lnSpc>
                <a:spcPct val="100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  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Stock first-aid supplies and train staff in their use.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906480" indent="-441360">
              <a:lnSpc>
                <a:spcPct val="100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  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Establish food and water reserves.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906480" indent="-44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4" name="Rectangle 17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Earthquake Preparations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3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D8C3D-AF40-471A-9419-3D0DF67036C1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-76320" y="1600200"/>
            <a:ext cx="9144000" cy="26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9720" indent="-444600">
              <a:lnSpc>
                <a:spcPct val="100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  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Make certain the appropriate tools are available to shut off gas and water valves.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909720" indent="-444600">
              <a:lnSpc>
                <a:spcPct val="100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  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Provide flashlights and extra batteries, and establish a regular schedule for verifying they are in working order.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Earthquake Preparations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0" y="9144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 Antiqua"/>
              </a:rPr>
              <a:t>(continued)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3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55BB3-88F0-4443-8742-FE2E3E9C7250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0" name="Rectangle 12"/>
          <p:cNvSpPr/>
          <p:nvPr/>
        </p:nvSpPr>
        <p:spPr>
          <a:xfrm>
            <a:off x="7996320" y="95724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64008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 Antiqua"/>
              </a:rPr>
              <a:t>(continued)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2" name="Rectangle 16"/>
          <p:cNvSpPr/>
          <p:nvPr/>
        </p:nvSpPr>
        <p:spPr>
          <a:xfrm>
            <a:off x="0" y="914400"/>
            <a:ext cx="9144000" cy="625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6480" indent="-441360"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906480" indent="-441360">
              <a:lnSpc>
                <a:spcPct val="100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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Every hotel must have a staff member trained in first aid be present on each work shift, unless there is ready access to medical services.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906480" indent="-441360">
              <a:lnSpc>
                <a:spcPct val="100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  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Prior to an emergency, understand who to call and how long it may take for assistance to arrive.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906480" indent="-441360">
              <a:lnSpc>
                <a:spcPct val="100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  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Develop a list of local physicians, dentists, and medical facilities for guests' convenience.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906480" indent="-44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Medical Emergencies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A2529-435C-44B2-83AB-92ED6AD574FF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5" name="Rectangle 15"/>
          <p:cNvSpPr/>
          <p:nvPr/>
        </p:nvSpPr>
        <p:spPr>
          <a:xfrm>
            <a:off x="304920" y="1752480"/>
            <a:ext cx="8762760" cy="48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8960" indent="-393840">
              <a:lnSpc>
                <a:spcPct val="100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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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Consider offering cardiopulmonary resuscitation (CPR) training to staff.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858960" indent="-393840">
              <a:lnSpc>
                <a:spcPct val="100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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  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Never move a guest to a medical facility in anything other than an ambulance (unless there is a major, community-wide emergency).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858960" indent="-393840">
              <a:lnSpc>
                <a:spcPct val="100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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  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Develop procedures for advising callers of a guest's illness or hospitalization.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858960" indent="-39384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858960" indent="-393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6" name="Rectangle 16"/>
          <p:cNvSpPr/>
          <p:nvPr/>
        </p:nvSpPr>
        <p:spPr>
          <a:xfrm>
            <a:off x="0" y="3808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Medical Emergencies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7" name="Rectangle 17"/>
          <p:cNvSpPr/>
          <p:nvPr/>
        </p:nvSpPr>
        <p:spPr>
          <a:xfrm>
            <a:off x="0" y="990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 Antiqua"/>
              </a:rPr>
              <a:t>(continued)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3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F8666-C354-4BA9-B505-C9E1B1B850D4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9" name="Rectangle 1034"/>
          <p:cNvSpPr/>
          <p:nvPr/>
        </p:nvSpPr>
        <p:spPr>
          <a:xfrm>
            <a:off x="-76320" y="533520"/>
            <a:ext cx="9144000" cy="67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6480" indent="-441360"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 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906480" indent="-441360">
              <a:lnSpc>
                <a:spcPct val="100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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Coordinate preparation with local authorities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and legal counsel.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906480" indent="-441360">
              <a:lnSpc>
                <a:spcPct val="100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  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Develop plans for negotiating and food rationing, should they become necessary.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906480" indent="-441360">
              <a:lnSpc>
                <a:spcPct val="100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  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Focus perimeter protection on buildings: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906480" indent="-441360"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Basement and ground-level windows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All entrances other than the main entrance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to the lobby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The roof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906480" indent="-44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0" name="Rectangle 1035"/>
          <p:cNvSpPr/>
          <p:nvPr/>
        </p:nvSpPr>
        <p:spPr>
          <a:xfrm>
            <a:off x="0" y="3650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Riots and Civil Disturbances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1" name="Rectangle 1036"/>
          <p:cNvSpPr/>
          <p:nvPr/>
        </p:nvSpPr>
        <p:spPr>
          <a:xfrm>
            <a:off x="0" y="64008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 Antiqua"/>
              </a:rPr>
              <a:t>(continued)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494E9-968D-4D73-8FD6-FDC4FB9E511F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0" y="1676520"/>
            <a:ext cx="9144000" cy="38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6480" indent="-44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906480" indent="-441360">
              <a:lnSpc>
                <a:spcPct val="100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Contact legal counsel for advice regarding any proposed statement to the media.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906480" indent="-441360">
              <a:lnSpc>
                <a:spcPct val="100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  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Quickly and accurately determine the facts.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906480" indent="-441360">
              <a:lnSpc>
                <a:spcPct val="100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  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Designate only one spokesperson for the property.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906480" indent="-44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0" y="36504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Basic Steps for Crisis Communications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0" y="64152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 Antiqua"/>
              </a:rPr>
              <a:t>(continued)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03:29:39Z</dcterms:created>
  <dc:creator>robert</dc:creator>
  <dc:description/>
  <dc:language>en-US</dc:language>
  <cp:lastModifiedBy>robert</cp:lastModifiedBy>
  <dcterms:modified xsi:type="dcterms:W3CDTF">2011-04-13T03:41:19Z</dcterms:modified>
  <cp:revision>2</cp:revision>
  <dc:subject/>
  <dc:title>Slide 1</dc:title>
</cp:coreProperties>
</file>